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631-4AC9-4718-87B4-EF56FC98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094E-9AD6-453A-906F-58CDCA1E1710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– Social Bookma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F325-5422-4371-8A99-0CF77917676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 – sharing links to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9D0-3A32-4C33-AC37-736C07A0227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D7D-2693-41DA-B907-A3F9199C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087-509D-44DD-AEB2-3E03F437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C37-A2D6-4B7D-8ED1-74063013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E18-CEE1-4ED3-88A0-32C9B3EB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FB4-87F7-4E1F-8106-75DA73FE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064-C860-411F-B401-DD2E7759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C9F5-A485-479F-A533-7824863C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8AD-B9D7-4699-864A-2364E6CA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D9A-8662-458E-BB4D-A03E30F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E8A0-5F95-4D5C-96A5-8BD52136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BE6C-F964-4B7B-8F78-E19B84B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25B-AD83-435B-AEAF-CEC1B6D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23DA-6909-467A-8473-F91F551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9AE-2B91-4972-B71B-432D1CF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66D5-E95B-4AB6-AD89-E6E2928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61DC-4926-4CEE-A7DA-D1BEC646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F0EA-F985-4013-9CC2-60B3FB3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01A-5A0F-460D-8074-19A81F11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78A-6DFF-4C17-A328-D88A631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660-AC8A-411F-B045-9A179F1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953-8D45-4C4B-946D-C143F7F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61D-9913-477E-A022-DFE6E42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F52-381B-47B0-92E3-DBFE7BB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88E-ABB9-4974-80ED-367CEBE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098-940E-44B7-BC72-303E65DC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9D1-227F-4E0F-AA3C-85C14D2F00B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Web_2.0_Map.sv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l.icio.us_logo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ing of bookma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mmon tags categorize related 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olksonomy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is a portmanteau of the words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olk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taxonomy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ag Clou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ight” of tag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Picture 5" descr="Image:Web 2.0 Map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3733920"/>
            <a:ext cx="3565440" cy="26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ocial Bookmark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l.icio.us, Furl, Digg, many oth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advantage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agging can be problematic, e.g., teacher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≠ teachers ≠ teaching or even tea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  <a:ea typeface="Tahoma"/>
              </a:rPr>
              <a:t>Too many tags can cause confus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  <a:ea typeface="Tahoma"/>
              </a:rPr>
              <a:t>Links to specific tag groups can be provided to studen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l.icio.u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en bookmarks are added, the channel is updat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ew as list or clou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n be embedded in other pages (wiki, blog, regular webpage) using R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asy to do RSS: see Richardson p. 99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Picture 7" descr="The del.icio.us &quot;logo&quot; as seen on the del.icio.us sit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80880"/>
            <a:ext cx="16761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ookmarking takes some pract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benefits should be clear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ookmarks all on the Web for easy acces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ility to sh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bility to find other sites of intere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8-07-15T14:53:48Z</dcterms:modified>
  <cp:revision>134</cp:revision>
  <dc:subject/>
  <dc:title>Podca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